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35BA-016F-47E6-BE4A-C196B9D8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A0D-F0DB-4B91-9960-A5808CCFE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FD6D-4E81-431A-A1EA-8EE01035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65F4-BA94-4406-861B-7281D2AD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541D-2A9B-4AE3-B0E4-A8B08D2D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E1E3-C2C0-4A59-85E9-7B8A5C7D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5919-E432-4027-A1F6-1ADD74455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0A2-07EF-474C-ABB5-A3BB32C6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85A3-62AC-46F3-8268-BBBE2294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F94-52A0-4BD6-A382-4A0B457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9C6-4A17-44C7-984C-A5FB1FA2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D65-4B15-45EE-A303-EE18622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EE2-5475-426D-96BC-3FF776DBF5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F98-2FDB-4C45-BA6C-FE6C7BE69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tillatte meldesystem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4D9-5C90-40EE-B255-256BA7D4B02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49FA2-29C7-4380-B284-09D9F89499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Gjennomsnitts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gjennomsnittshånd er en hånd som har en honnør av hver rang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va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vak hånd mangler en konge eller mer på å være like sterk som en gjennomsnittshånd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Sterk hån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sterk hånd er minst en konge bedre enn en gjennomsnittshån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lang når den er på minst tre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Kort farg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n farge er kort når den er på høyst to kort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045-4DD2-4F9E-BFFB-EB5FD6A12FA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C472A6-5492-44D1-885D-603FDFA453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efinisjoner I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nvensjonell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konvensjonell når den i følge makkeravtale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kan formidle en annen betydning enn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En vilje til å spille i angitt benevnelse (eller den sist angitte benevnelse.)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Honnørstyrke i fargen.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lvl="2" marL="960120" indent="-1918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990000"/>
                </a:solidFill>
                <a:latin typeface="Times New Roman"/>
              </a:rPr>
              <a:t>Lang farge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kte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ekte når den ikke er konvensjonell 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(etter definisjonen ovenfor)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Lang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lang når den er på minst 17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ort lagkam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lagkamp er kort når den er på høyst 16 spill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Psykisk meld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melding er psykisk når den er overlagt og grovt villedende i forhold til systemdeklarasjone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Semibalansert hånd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n hånd er semibalansert når den inneholder to dobbeltoner eller en singelton uten dobbelton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9DA-A2DD-4977-8FA7-0D8313A455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3AC71-5E64-4524-AB5F-D96DC166FD8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UM 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(Høyst uvanlig metode)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990000"/>
                </a:solidFill>
                <a:latin typeface="Times New Roman"/>
              </a:rPr>
              <a:t>Et system tilhører kategorien HUM når det oppfyller minst ett av fem kriterier: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Pass i åpning viser eller kan inneholde en sterk hånd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000066"/>
                </a:solidFill>
                <a:latin typeface="Times New Roman"/>
              </a:rPr>
              <a:t>Et åpningsbud på entrinne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ære svakere enn pass i samme posisjon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ller inneholde en svak hånd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alternativt vise kort eller lang farg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an vise enten lengde i en farge eller i en eller flere andre farger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36DE-38CF-496B-B716-23C8393E778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3C7230-4561-4890-A407-5273C731EE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UK  (Høyst uvanlig konvensjon )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UK er konvensjon knytte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Åpningsbud fra og med 2 kløver til og med 3 spar, som kan vise eller inneholde hånd under gjennomsnitt og da ikke viser minst 4 kort i en bestemt farg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A) Meldingen viser alltid minst 4 kort i en kjent farge når det ikke er sterkt. Dersom meldingen ikke viser en kjent 4 kortsfarge, må den vise en hånd med en konge eller mer over gjennomsnit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) Åpning 2 i minor som viser minst 5 kort i en ukjent majorfarge, er ikke HUK</a:t>
            </a: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804B-F4AB-4CC0-B66F-35215E844D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697E8-EC2A-44F9-B10F-9CB0DD8646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000066"/>
                </a:solidFill>
                <a:latin typeface="Times New Roman"/>
              </a:rPr>
              <a:t>HUK  (Høyst uvanlig konvensjon )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Innmelding som etter åpning på entrinnet i ekte farge ikke viser minst 4 kort i en kjent farge;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990000"/>
                </a:solidFill>
                <a:latin typeface="Times New Roman"/>
              </a:rPr>
              <a:t>Unntak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ersom alle ikke-sterke varianter av en slik melding har en felles kjent farge på minst fire kort, kan den altså i tillegg fritt ha hvilke som helst sterke betydning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kte grandmelding med eller uten hold </a:t>
            </a: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Melding på hånd som kan være svak og da viser to farger der den ene kan være på mindre enn 4 kort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400" spc="-1" strike="noStrike">
                <a:solidFill>
                  <a:srgbClr val="000066"/>
                </a:solidFill>
                <a:latin typeface="Times New Roman"/>
              </a:rPr>
              <a:t>Psykiske meldinger som er beskyttet eller krevd av system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Ingen forsvar mot sterke, konvensjonelle åpningsbud, HUK eller HUM er  HUK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511-8FF9-411F-84AC-F1FD1E40801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623DD-FBBB-49BB-8542-A3C1AA93DB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Gruppering av meldesystemer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676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Naturlige systemer 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røn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Naturlig når det på entrinnet bruker ekte åpningsmeldinger som viser minst tre kort i minor og fire i major, har ekte svar på en og totrinnet og har </a:t>
            </a:r>
            <a:br>
              <a:rPr sz="1800"/>
            </a:b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1grandåpning som viser en balansert eller semibalansert hånd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34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1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Konvensjoner som Toronto og Stenberg er tillatt. </a:t>
            </a:r>
            <a:endParaRPr b="0" lang="en-US" sz="1400" spc="-1" strike="noStrike">
              <a:solidFill>
                <a:srgbClr val="99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Minorsystemer      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Blåt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  Minorsystem når det baserer seg på 1 kløver eller 1 ruter eller begge som konvensjonelle åpningsmeldinger og åpningen 1 i major og åpningen 1 Grand , er som for naturlige system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Kunstige systemer  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Rød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Et system er Kunstig når det ikke faller i kategoriene Naturlig eller Minor og ikke bruker meldinger som er definert som HUM eller HUK. 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Kategorien omfatter bl.a Vienna , relésystemer, systemer med tillatte flertydige åpningsmeldinger og systemer med poengsvar ).</a:t>
            </a: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HUM (Høyst Uvanlige Metoder) 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ult systemkor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Et system er HUM når det i oppsettet har prinsipper som er beskrevet under HUM eller HUK unntatt konvensjoner som er beskrevet i tillatte brune vedlegg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79AF-9E0B-4426-AF66-017DFBB57F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11888-1466-4238-A00F-C28E571E4B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Generelle regl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Arrangøren av en turnering bestemmer hvilke kategorier som er tillat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HUM kan bare tillates i lange lagkamper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Lag med spillende par som bruker HUM systemer, er alltid bortelag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M systemer tillates, skal systembeskrivelse sendes inn til arrangøren - fortrinnsvis på fil - for distribusjon til andre deltakere i turneringen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Når HUK tillates, skal et forslag til forsvar beskrives sammen med konvensjonen i det brune vedlegget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det </a:t>
            </a:r>
            <a:r>
              <a:rPr b="1" i="1" lang="nb-NO" sz="2000" spc="-1" strike="noStrike">
                <a:solidFill>
                  <a:srgbClr val="990000"/>
                </a:solidFill>
                <a:latin typeface="Times New Roman"/>
              </a:rPr>
              <a:t>ikke</a:t>
            </a: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 i innbydelsen til turneringen er gjort særskilt vedtak, gjelder følgende: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ingelturneringer og andre "spesialturneringer"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Arrangøren kan fastsette et system som er felles for alle spillern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74D-50D8-45C6-8C46-1540516CBAB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422A4-0257-4047-9D04-B80F5AAAC0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illatte meldesystemer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"Åpne" turneringer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generell innbydelse med klubbpoeng eller kretspoeng , SM damer 2. div, SM 4. og 5.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HUM og HUK er forbud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Forbundspoeng-turneringer etc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turneringer med forbundspoeng, kretsmesterskap med kvalifisering til NM, NM finaler under Bridgefestivalen,  SM 3. divisjon og cup - rundene i NM for klubblag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Grønne, blå og røde systemer er tillatt. 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Inntil 2 HUK er tillatt.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Toppturneringen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I finalen NM for klubblag, finalerundene NM for Lag,  SM 1 divisjon, SM 2 divisjon og SM damer 1 divisjon gjelder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Alle kategorier er tillat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tillatte meldesystemer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BA5B-0084-4EF1-8A53-0A8DEE2E2F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30963-4CB7-4429-857A-247C700EE8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2:10:32Z</dcterms:created>
  <dc:creator>Per Nordland</dc:creator>
  <dc:description/>
  <dc:language>en-US</dc:language>
  <cp:lastModifiedBy>Per Nordland</cp:lastModifiedBy>
  <dcterms:modified xsi:type="dcterms:W3CDTF">2002-06-01T20:22:18Z</dcterms:modified>
  <cp:revision>9</cp:revision>
  <dc:subject/>
  <dc:title>Regler for tillatte meldesystemer</dc:title>
</cp:coreProperties>
</file>